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03A-EB15-4349-A8FC-8EB86AF0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C65-73D6-4DE9-B6CA-1F31203D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717-C8BE-4516-A75A-F7DC21D2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1AD-31B1-42D0-B0F7-E44DDD38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6DF0-7F5E-46C7-A21E-CADC0009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E5B4-AB6B-429B-AF1A-108DC875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B89F-EC45-4BED-B100-5524B30E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BC0D-2119-4505-A7B7-CA2DC8E7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DB7C-3E2F-485A-8900-A66192CC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A218-088B-4578-873A-EEA60EB3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F5DD-7F52-40D9-9DDD-1506F7C6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2BA-8B3E-48BF-9C53-065C02A7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1A60-0FA7-4944-BB1F-74BADCAB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C8D9-B779-4D1B-AAB8-848C43A8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3907-ACDC-4830-AF29-FA558A1A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75FD-C477-45BA-9ADD-7E5B87ED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4695-D5AA-4851-B7FA-6E346644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D220-1F44-416D-8C3A-33EAC5FD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4536C-3FFB-4FCB-9598-22089594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E77E-B130-4388-B9EC-EE99E285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3DD3-1465-46DA-89DD-26497B0C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E164-F94E-44CE-A1AC-537267C1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926-0BC0-4E40-92BD-341A4FF2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CD57-37BD-435F-A006-016F23DF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6A97-01C5-4C74-A3AD-C15D7BE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1C64A-E0E8-4EB6-86F3-7A1FCB0F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43BDC-A1E9-4A51-BFE5-1EB97960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01077-9D6D-4E4D-8876-0D2DE4E7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5A584-6756-4419-B3AB-99CA8F91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2FD4-6B1F-474B-97CB-96014686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B111-2AFB-4121-91BC-7934924F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4720F-24EF-407F-991D-D4D80ED5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FC0C-AEE7-41F0-B219-C5D7B711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924-6CC2-4DF3-9B0F-1BC2DFA0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231D-0C9D-47FD-A407-2AB3E9CD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A7552-8631-4852-B216-AE6B3404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373FE-86F5-4BA3-8708-38C30D72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0A0A-F887-4009-9F23-D0FD5163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CA12F-5CC8-441D-ADD0-80C9B4DB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3708A-8413-491D-B332-E4BF89BB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639D-EF8F-4C24-B67E-2B18CF15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CCB4-DA38-49E5-8ECD-871725E9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85051-FB10-4503-B919-3EE0EAF0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F3F-7F9A-4289-A8B3-A549ED9C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08C-6274-4330-AAE8-323B2799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42C-EEFC-4CCD-B2B1-A2BEC292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1DC-BF53-4392-B168-26E9B0C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E46-3A32-4D9E-B570-570653FF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FCA0-3536-4276-B6B6-D56ED56F672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62A9-87A6-4F5D-83DA-07628586328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696-158C-416A-844B-A61F2A96426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F9C8-27C1-4BDA-9F84-8D949339B6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Academ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3" descr="ATT00004.gif"/>
          <p:cNvPicPr/>
          <p:nvPr/>
        </p:nvPicPr>
        <p:blipFill>
          <a:blip r:embed="rId2"/>
          <a:stretch/>
        </p:blipFill>
        <p:spPr>
          <a:xfrm>
            <a:off x="1752480" y="914400"/>
            <a:ext cx="575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Content Placeholder 3" descr="ATT00005.gif"/>
          <p:cNvPicPr/>
          <p:nvPr/>
        </p:nvPicPr>
        <p:blipFill>
          <a:blip r:embed="rId2"/>
          <a:stretch/>
        </p:blipFill>
        <p:spPr>
          <a:xfrm>
            <a:off x="1371600" y="433440"/>
            <a:ext cx="44197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Content Placeholder 3" descr="ATT00007.gif"/>
          <p:cNvPicPr/>
          <p:nvPr/>
        </p:nvPicPr>
        <p:blipFill>
          <a:blip r:embed="rId2"/>
          <a:stretch/>
        </p:blipFill>
        <p:spPr>
          <a:xfrm>
            <a:off x="457200" y="2133720"/>
            <a:ext cx="83883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4 A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c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ppropriate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ccountab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ppe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Te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Constantia"/>
              </a:rPr>
              <a:t>"Informed consen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/>
          <p:nvPr/>
        </p:nvSpPr>
        <p:spPr>
          <a:xfrm>
            <a:off x="3338640" y="324576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"Level of perform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4114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"Modified programming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8400" y="198036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Placement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2000" y="380916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Referral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6080" y="4952160"/>
            <a:ext cx="28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"Specialized assessment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62120" y="525708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"Transition planning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mes under Ac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formed Cons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dentific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ssess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pecialized Assess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ight of Access to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ordinated Servic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mes under Appropriatenes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ofessional Standard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arent Involvement in Decision-mak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lace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dividualized Program Planning, Implementation and Evalu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Themes under Accountability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porting - School Board Policy and Procedur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porting to Paren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ogram Monitoring and Evalu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articipation in Provincial Assessmen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mes Under Appe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pecial Education Appeal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o Much Technolog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Content Placeholder 3" descr="ATT00002.gif"/>
          <p:cNvPicPr/>
          <p:nvPr/>
        </p:nvPicPr>
        <p:blipFill>
          <a:blip r:embed="rId2"/>
          <a:stretch/>
        </p:blipFill>
        <p:spPr>
          <a:xfrm>
            <a:off x="1212840" y="603360"/>
            <a:ext cx="55785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1:23:21Z</dcterms:created>
  <dc:creator>Bharati Singh</dc:creator>
  <dc:description/>
  <dc:language>en-US</dc:language>
  <cp:lastModifiedBy>Bharati Singh</cp:lastModifiedBy>
  <dcterms:modified xsi:type="dcterms:W3CDTF">2011-02-25T15:50:59Z</dcterms:modified>
  <cp:revision>7</cp:revision>
  <dc:subject/>
  <dc:title>Standards of Special Education</dc:title>
</cp:coreProperties>
</file>